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EDB9-40A8-4075-9A00-877286C8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E56-AEFA-45E3-91D4-3FD9F201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DC9-43EF-4E2F-879D-6219F95D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0D4-F37C-4C3A-B4A0-5098DD73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491-62DA-4415-83F5-BC763F35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510-4784-4F8E-8D9F-12B0B537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166-C08B-4E74-8C8B-1C77DD5B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9A6-AD2A-43EB-9376-197681E0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ED6-7EA3-4439-9BC8-E0398A64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CB7-1A3A-41BE-AE70-768D8D52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1BD-CB8E-4180-8904-48B89C47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BBB-BCE7-4219-A4E4-FC6C59B0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1E7C-9558-4D0E-9AB4-EF69845A5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42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43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1332000" y="836640"/>
            <a:ext cx="6524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5280" y="30686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265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266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6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near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419640" y="3213000"/>
            <a:ext cx="2485800" cy="1798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1" dur="indefinite" restart="never" nodeType="tmRoot">
          <p:childTnLst>
            <p:seq>
              <p:cTn id="602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4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661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290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291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between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 4" descr="entre.gif"/>
          <p:cNvPicPr/>
          <p:nvPr/>
        </p:nvPicPr>
        <p:blipFill>
          <a:blip r:embed="rId2"/>
          <a:stretch/>
        </p:blipFill>
        <p:spPr>
          <a:xfrm>
            <a:off x="3635280" y="3141720"/>
            <a:ext cx="2054160" cy="1797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6250"/>
                            </p:stCondLst>
                            <p:childTnLst>
                              <p:par>
                                <p:cTn id="7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722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3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24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738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8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65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66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6" name="Image 0" descr="dans.gif"/>
          <p:cNvPicPr/>
          <p:nvPr/>
        </p:nvPicPr>
        <p:blipFill>
          <a:blip r:embed="rId2"/>
          <a:stretch/>
        </p:blipFill>
        <p:spPr>
          <a:xfrm>
            <a:off x="3995640" y="3068640"/>
            <a:ext cx="1181160" cy="1797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in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90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91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in front of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2" descr="devant.gif"/>
          <p:cNvPicPr/>
          <p:nvPr/>
        </p:nvPicPr>
        <p:blipFill>
          <a:blip r:embed="rId2"/>
          <a:stretch/>
        </p:blipFill>
        <p:spPr>
          <a:xfrm>
            <a:off x="3924360" y="3213000"/>
            <a:ext cx="132408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25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10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115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behind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 1" descr="derriere.gif"/>
          <p:cNvPicPr/>
          <p:nvPr/>
        </p:nvPicPr>
        <p:blipFill>
          <a:blip r:embed="rId2"/>
          <a:stretch/>
        </p:blipFill>
        <p:spPr>
          <a:xfrm>
            <a:off x="3995640" y="3141720"/>
            <a:ext cx="1042920" cy="180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190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140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141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on the left of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708360" y="3068640"/>
            <a:ext cx="1860480" cy="180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750"/>
                            </p:stCondLst>
                            <p:childTnLst>
                              <p:par>
                                <p:cTn id="2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293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165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166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under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Image 6" descr="sous.gif"/>
          <p:cNvPicPr/>
          <p:nvPr/>
        </p:nvPicPr>
        <p:blipFill>
          <a:blip r:embed="rId2"/>
          <a:stretch/>
        </p:blipFill>
        <p:spPr>
          <a:xfrm>
            <a:off x="3419640" y="3357720"/>
            <a:ext cx="2357280" cy="1798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750"/>
                            </p:stCondLst>
                            <p:childTnLst>
                              <p:par>
                                <p:cTn id="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32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190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191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next to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708360" y="3141720"/>
            <a:ext cx="1946160" cy="1798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500"/>
                            </p:stCondLst>
                            <p:childTnLst>
                              <p:par>
                                <p:cTn id="4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429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215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216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on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mage 5" descr="sur.gif"/>
          <p:cNvPicPr/>
          <p:nvPr/>
        </p:nvPicPr>
        <p:blipFill>
          <a:blip r:embed="rId2"/>
          <a:stretch/>
        </p:blipFill>
        <p:spPr>
          <a:xfrm>
            <a:off x="3564000" y="3068640"/>
            <a:ext cx="1896840" cy="1798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46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-539640" y="-598680"/>
            <a:ext cx="10217160" cy="8010360"/>
            <a:chOff x="-539640" y="-598680"/>
            <a:chExt cx="10217160" cy="8010360"/>
          </a:xfrm>
        </p:grpSpPr>
        <p:grpSp>
          <p:nvGrpSpPr>
            <p:cNvPr id="240" name=""/>
            <p:cNvGrpSpPr/>
            <p:nvPr/>
          </p:nvGrpSpPr>
          <p:grpSpPr>
            <a:xfrm>
              <a:off x="-539640" y="-598680"/>
              <a:ext cx="10217160" cy="8010360"/>
              <a:chOff x="-539640" y="-598680"/>
              <a:chExt cx="10217160" cy="8010360"/>
            </a:xfrm>
          </p:grpSpPr>
          <p:sp>
            <p:nvSpPr>
              <p:cNvPr id="241" name=""/>
              <p:cNvSpPr/>
              <p:nvPr/>
            </p:nvSpPr>
            <p:spPr>
              <a:xfrm>
                <a:off x="335160" y="299880"/>
                <a:ext cx="8496000" cy="6264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8810600">
                <a:off x="-410040" y="-17568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766600">
                <a:off x="7927200" y="-175320"/>
                <a:ext cx="1618920" cy="105264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3672200">
                <a:off x="-381600" y="590544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944000">
                <a:off x="7928640" y="5932800"/>
                <a:ext cx="1618920" cy="1052280"/>
              </a:xfrm>
              <a:prstGeom prst="flowChartExtra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3030480" y="2305080"/>
              <a:ext cx="3097440" cy="3024000"/>
            </a:xfrm>
            <a:prstGeom prst="flowChartAlternateProcess">
              <a:avLst/>
            </a:prstGeom>
            <a:solidFill>
              <a:srgbClr val="bbe0e3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02120" y="2379600"/>
              <a:ext cx="2952720" cy="28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 txBox="1"/>
          <p:nvPr/>
        </p:nvSpPr>
        <p:spPr>
          <a:xfrm>
            <a:off x="1332000" y="476280"/>
            <a:ext cx="6524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 Black"/>
              </a:rPr>
              <a:t>PREPOSITIONS OF PLAC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72360" y="234792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72360" y="313992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72360" y="3932280"/>
            <a:ext cx="201600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72360" y="4724280"/>
            <a:ext cx="2016000" cy="648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1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EF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3280" y="5589720"/>
            <a:ext cx="2016360" cy="64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IGH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780000" y="2852640"/>
            <a:ext cx="1584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66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1413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The boy is </a:t>
            </a:r>
            <a:r>
              <a:rPr b="0" lang="pt-PT" sz="2800" spc="-1" strike="noStrike" u="sng">
                <a:solidFill>
                  <a:srgbClr val="ff2121"/>
                </a:solidFill>
                <a:uFillTx/>
                <a:latin typeface="Arial Rounded MT Bold"/>
              </a:rPr>
              <a:t>on the right of</a:t>
            </a:r>
            <a:r>
              <a:rPr b="0" lang="pt-PT" sz="2800" spc="-1" strike="noStrike">
                <a:solidFill>
                  <a:srgbClr val="000000"/>
                </a:solidFill>
                <a:latin typeface="Arial Rounded MT Bold"/>
              </a:rPr>
              <a:t>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64000" y="3068640"/>
            <a:ext cx="1925640" cy="17985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8207280" y="598176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6" dur="indefinite" restart="never" nodeType="tmRoot">
          <p:childTnLst>
            <p:seq>
              <p:cTn id="52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623E-007 C 0.07153 0.04302 0.14306 0.08628 0.17952 0.08674 C 0.21598 0.0872 0.22917 0.01133 0.21928 0.00323 C 0.20938 -0.00486 0.11303 -0.01157 0.12049 0.03863 C 0.12796 0.08882 0.19584 0.19685 0.26389 0.30511 E">
                                      <p:cBhvr>
                                        <p:cTn id="6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0:15:48Z</dcterms:created>
  <dc:creator>nocas</dc:creator>
  <dc:description/>
  <dc:language>en-US</dc:language>
  <cp:lastModifiedBy>nocas</cp:lastModifiedBy>
  <dcterms:modified xsi:type="dcterms:W3CDTF">2009-04-12T11:38:04Z</dcterms:modified>
  <cp:revision>10</cp:revision>
  <dc:subject/>
  <dc:title>Diapositivo 1</dc:title>
</cp:coreProperties>
</file>